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7667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D5FC-17E8-4586-87AA-B4247925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A343-BFBA-4211-9A9F-D187AABF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EEE-B1B2-4D28-A41D-92F9264F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7E0A-CE0A-4224-8369-4C14C64D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BEA-2C41-41F4-953A-F3E7630F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A380-C636-4D02-B3A4-03806C8B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A536-1B10-46A8-B1A2-14341160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73B1-FFEE-4393-8E7B-12277E36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EAD7-3168-4E8F-95F6-571F97BA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9A0A-5FF2-4F21-8DBB-908ECB45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99FF-A953-424F-B8A9-76144F0B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515F-5440-4C3B-B8B7-F62CB365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76B3-12E4-4F72-BACA-A70FA573A514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562040"/>
            <a:ext cx="609624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987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333399"/>
                </a:solidFill>
                <a:latin typeface="Arial"/>
              </a:rPr>
              <a:t>Norvēģijas valdības divpusējā finanšu instrumenta līdzfinansētais individuālais projekts Nr. LV0024 </a:t>
            </a:r>
            <a:br>
              <a:rPr sz="1800"/>
            </a:br>
            <a:r>
              <a:rPr b="0" lang="lv-LV" sz="1800" spc="-1" strike="noStrike">
                <a:solidFill>
                  <a:srgbClr val="333399"/>
                </a:solidFill>
                <a:latin typeface="Arial"/>
              </a:rPr>
              <a:t>,,Latvijas probācijas un ieslodzījuma vietu personāla kapacitātes celšana”</a:t>
            </a:r>
            <a:br>
              <a:rPr sz="1800"/>
            </a:br>
            <a:br>
              <a:rPr sz="1800"/>
            </a:br>
            <a:r>
              <a:rPr b="0" lang="lv-LV" sz="1800" spc="-1" strike="noStrike">
                <a:solidFill>
                  <a:srgbClr val="333399"/>
                </a:solidFill>
                <a:latin typeface="Arial"/>
              </a:rPr>
              <a:t>Noslēguma konference - Projekta rezultātu izplatīšana</a:t>
            </a:r>
            <a:br>
              <a:rPr sz="1800"/>
            </a:br>
            <a:br>
              <a:rPr sz="1800"/>
            </a:br>
            <a:r>
              <a:rPr b="1" lang="lv-LV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333399"/>
                </a:solidFill>
                <a:latin typeface="Arial"/>
              </a:rPr>
              <a:t>VPD un IeVP darbinieku apmācība </a:t>
            </a:r>
            <a:br>
              <a:rPr sz="2800"/>
            </a:br>
            <a:br>
              <a:rPr sz="2400"/>
            </a:b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rojekta LV0024 Apmācību nodaļas </a:t>
            </a:r>
            <a:br>
              <a:rPr sz="2400"/>
            </a:b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vadītāja Daina Vanag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tivējošā interv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mināru dalībnieku atziņas par visnoderīgāko MI apmācībā: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ā labāk uzdot jautājumus un kādus, lai izvilktu no klienta nepieciešamos resursus viņa iespējamai maiņai bez konfrontācijas”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ādēļ cilvēks mainās vai nemainās”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svērt cilvēku uz dialogu un pārmaiņām”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 bija svarīgi uzzināt kā veicināt klientu veikt  pārmaiņas sevī un es to uzzināju”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4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992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ācību vizī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as četras mācību vizītes (Norvēģijā, Dānijā, Francijā), kurās piedalījās 24 pārstāvji no IeVP un VPD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Mērķis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– iepazīties ar probācijas un ieslodzījuma vietu darbinieku apmācību pieredzi un gūt informāciju mācību programmu izstrādei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7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ieredzes apmaiņas vizī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as četras pieredzes apmaiņas vizītes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(Īrijā, Norvēģijā, Austrijā),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kurās piedalījās 45 pārstāvji no IeVP un VPD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Mērķi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– gūt pieredzi par izlīguma organizēšanu starp cietušo un likumpārkāpēju, iepazīties ar darba metodēm sabiedrībā izciešamo sodu organizēšanā, pētīt resocializācijas praksi ieslodzījuma vietās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0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līšanās ārvalstu pieredz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jekta īstenošanas laikā tika iekļauta jauna aktivitāt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Dalīšanās ārvalstu pieredzē”,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kas sasaucās ar kopējo projekta mērķi – paaugstināt probācijas sistēmā nodarbināto kompetenci un darba kvalitāti.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ieredzes apmaiņas semināra mērķis - pēc iespējas lielāku probācijas darbinieku skaitu iepazīstināt ar citu Eiropas valstu progresīvo pieredzi probācijas jomā, tādejādi attīstot darbinieku motivāciju pilnveidot savas zināšanas, prasmes un iemaņas darbā ar probācijas klientie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minārā kopumā piedalījās 50 VPD darbinieki, kas pārstāvēja visas TSV un to filiāles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3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olēģ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onsultāci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0347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Lai uzlabotu probācijas darba kvalitāti darbā ar klientu, sniegtu savstarpēju atbalstu un vienlaicīgi novērtētu iepriekš minēto apmācību efektivitāti tika iekļauta jauna aktivitāte </a:t>
            </a:r>
            <a:r>
              <a:rPr b="1" lang="lv-LV" sz="2400" spc="-1" strike="noStrike">
                <a:solidFill>
                  <a:srgbClr val="333399"/>
                </a:solidFill>
                <a:latin typeface="Arial"/>
              </a:rPr>
              <a:t>“Kolēģu konsultācijas”,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kas sasaucas ar iepriekš minēto projekta mērķi - paaugstināt probācijas sistēmā nodarbināto kompetenci un darba kvalitāti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rojekta laikā tiks īstenoti 16 profesionālā atbalsta pasākumi, kuros kopumā piedalīsies 192 probācijas darbinieki. Kolēģu konsultācijās piedalās darbinieki, kas ir iepriekš piedalījušies apmācībās, tādējādi turpinot apmācību pieredzi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Trīs galvenās diskusiju tēmas –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dzimumnoziedzniekiem;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atkarīgām personām;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personām ar garīgas veselības traucējumiem.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6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urpinājum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ētījums “Par probācijas un ieslodzījuma vietu darbinieku apmācību vajadzībām, kompetencēm un esošo apmācību programmu izvērtēšanu”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IeVP un VPD darbinieku mācību programmu izstrāde un pilnveide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Norvēģijas nacionālā mediācijas dienesta atbalsts izlīguma speciālistu sagatavošan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9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1776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oslēguma diskusij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36180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fesionāla speciālista kompetenci raksturo – zināšanas, prasmes un vērtības (attieksmes), lai kvalitatīvi veiktu savu darbu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92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eva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Kvalitātes jautājumi: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i es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gribu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šo (konkrēto) darbu darīt?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i es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drīkstu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šo (konkrēto) darbu darīt?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i es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pēju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šo (konkrēto) darbu darīt?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0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mācību nodaļas uzdev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lānot un organizēt VPD un IeVP darbinieku apmācību semināru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 mācību semināru programmu izstrādi un mācību materiālu tulkošanu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lānot un organizēt pieredzes apmaiņas vizītes un mācību vizītes uz ārvalstī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 pētījuma veikšanu par probācijas un ieslodzījuma vietu darbinieku apmācību vajadzībām, kompetencēm un esošo apmācību programmu izvērtēšanu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 apmācību programmu izstrādi un pilnveidi probācijas un ieslodzījuma vietu darbinieku apmācībai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3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inansē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opējais projekta budžets EUR 869 996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mācību nodaļas uzdevumu realizēšanai plānotais finansējums EUR 619 796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6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015560"/>
            <a:ext cx="82296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rbinieku apmācī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ānotais - 570 dalībnieku apmācība 32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mināros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pildus 22 semināros tiks apmācīti 351 dalībnieki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opumā projekta ietvaros tiks noorganizēti 54 semināri, kuros piedalīsies 932 dalībnieki (IeVP 364 un VPD 568)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z 15.12.2010. apmācīti 314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robācijas darbinieki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No projekta īstenošanas laikā apmācītajiem darbiniekiem probācijā vairs nestrādā 53 semināru dalībnieki.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z 15.12.2010.apmācīti 190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ieslodzījuma vietu darbinieki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9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mācīb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minār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pildus organizēti semināri: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rbs ar personām ar garīgas veselības traucējumiem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1 seminārs / 29 dalībnieki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rbs ar dzimumnoziedzniekiem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1 seminārs / 11 dalībnieki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rbs ar atkarīgām personām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1 seminārs /27 dalībnieki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ersonības attīstības treniņš: emociju pārvaldīšana un stresa pārvarēšan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 3 semināri / 37 dalībnieki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tivējošā intervēšan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 16 semināri / 256 dalībnieki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2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mināru program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rojekta ietvaros ir izstrādātas semināru programmas: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Darbs ar personām ar garīgas veselības traucējumie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Darbs ar dzimumnoziedzniekie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Darbs ar atkarīgām personā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ersonības attīstības treniņš: emociju pārvaldīšana un stresa pārvarēšana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Semināru tēmas iekļautas darbinieku apmācību programmā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5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mināru lek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Semināru programmas izstrādāja profesionāļi konkrētajā jomā (ārsti, psihologi, psihoterapeiti utml.)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Seminārus vadīja speciālisti no ASV, Norvēģijas, Dānijas, Ziemeļīrijas un Šveice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Speciālisti no Latvijas  vadīja seminārus –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atkarīgām personām”, 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personām ar garīgas veselības traucējumiem”, 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dzimumnoziedzniekiem”.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8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tivējošā interv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23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ēctecību projekta realizācijā nodrošinās 16 apmācītie semināru “Motivējošā intervēšana” (MI) vadītāji, kas projekta ietvaros novadīs 16 seminārus, kopumā apmācot 256 IeVP un VPD darbiniekus.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MI vadītājus sagatavoja Īlas cietuma speciālisti no Norvēģijas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Semināru dalībnieki motivējošās intervēšanas apmācību atzinīgi novērtē, kā darba instrumentu darbam ar klientu gan IeVP, gan VPD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1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8:11:22Z</dcterms:created>
  <dc:creator>Kristaps</dc:creator>
  <dc:description/>
  <dc:language>en-US</dc:language>
  <cp:lastModifiedBy>ilva.cimdina</cp:lastModifiedBy>
  <dcterms:modified xsi:type="dcterms:W3CDTF">2010-12-14T14:09:18Z</dcterms:modified>
  <cp:revision>33</cp:revision>
  <dc:subject/>
  <dc:title>Slide 1</dc:title>
</cp:coreProperties>
</file>